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C1E-E12D-4418-8E01-F28F539C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43F-CB0D-49FF-AEBA-BA67B747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A50-719C-46AC-9F5D-88D0E827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E0E-E3F8-4888-A73D-3FEB38E3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E09E-109E-4779-8A19-C309F10F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70E9-D79A-4647-B31F-9AA4A77A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AAE1-328E-418A-B20E-425E2C5D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0619-3364-4522-A57A-86229E2B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8225-EA50-42E5-8236-52A6DBEA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ECC7-B582-44EC-BF17-2DE3ADAD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59E5-C822-407B-BA99-D00286C6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E78-414C-4E46-9864-F28EDC7E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FFC1-A0FC-439D-A795-8CBD0716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E43F-18A0-4398-B0E5-440D624F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8402-74BD-402F-811C-E1076105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CDF7-C915-4DA7-8299-D228B257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F58A-A251-43E6-8285-E99E8544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4E5B-873C-4EB4-9667-50B328FC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5C69-1897-4BF7-A6A9-48D38CED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BFD1-1E87-4997-9A6A-F1F4584E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1F25-0D6D-43B0-9656-A23EF6E4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3D8A-76B8-44C6-88D0-DDD1628A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CF8-8E53-41B5-9C74-16EE3A20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187C-EB7D-482F-AF02-5FDC6F08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F22F-D008-49BE-BAAA-82604D6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0081-27C8-432A-BA82-5969BAE3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ADA0-54B1-4835-977D-726473FD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4EDF-4DD5-4D97-A014-BD25D98E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43410-D455-4FF9-B3B4-88AA8282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07A6-3FB3-4C5B-AE65-BF8556A7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6340D-14F0-42B0-9118-4B13F367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CA83-C7F2-44F6-AF26-04B00372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F1E9-D57B-46C8-81CE-C8A2A176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402-5601-43AF-B367-656843E2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D96B-572A-44E9-951F-347CC6DB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D2F6-10F8-46C0-9A7D-9FAF115B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055AD-E837-4AF6-A24A-94899297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73B2-0B11-4F95-A090-9B7918F8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4A66F-5177-405B-AB47-E41ABC4C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5A37-3C87-48C0-BA9E-C8B73281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9F544-D4B6-4049-960F-55574C1C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08A3D-8570-40FA-B595-553BF5BF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6D968-5378-41B8-8E9C-083EF18E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2D53B-513D-41B4-BB27-89E66B03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12C-02F6-43C9-B1C6-9D45EEC8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2E41B-6150-4963-A501-B4E28AF6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70905-73DC-4C0D-AE10-6F07EB6C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D0D94-2719-4207-93DC-8B4F3D02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BA3FA-8AA1-4379-8015-E5DCBEB4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6AC9-895C-4AF9-A965-8F75429F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19E2F-1AEF-4902-BCAF-35EE6FF2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6E5EE-AE15-4610-8B66-87E75771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24D5A-21B0-4120-BEFE-F0111C6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B9401-E71E-4356-A78C-EDFA6ED8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AF298-782C-4951-A72A-93B83274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EEE-F131-47BD-9229-DA23E2FD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7C866-30B3-45CE-922F-71AAD2D3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A49-EF7C-4114-A012-0B35F62E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22E-564A-48E2-89E6-5B612E51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A22-97CF-4D92-8928-5D074C0A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408D-054B-4F26-8419-4C5C56569E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67CE-2843-476F-A679-730D097A1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EC91-2518-4CC8-BF29-795DC369016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20BB-6BA2-4F2A-BEF5-FA1DDEF5C89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39A9-539F-4565-84A4-A7EE127363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trans-siberia-tour-three-cities"/>
          <p:cNvPicPr/>
          <p:nvPr/>
        </p:nvPicPr>
        <p:blipFill>
          <a:blip r:embed="rId1"/>
          <a:stretch/>
        </p:blipFill>
        <p:spPr>
          <a:xfrm>
            <a:off x="0" y="-17640"/>
            <a:ext cx="10439280" cy="687564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2" descr=""/>
          <p:cNvPicPr/>
          <p:nvPr/>
        </p:nvPicPr>
        <p:blipFill>
          <a:blip r:embed="rId2"/>
          <a:stretch/>
        </p:blipFill>
        <p:spPr>
          <a:xfrm>
            <a:off x="1365120" y="-6480"/>
            <a:ext cx="8358480" cy="1603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428640" y="220968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Juice ITC"/>
              </a:rPr>
              <a:t>By:</a:t>
            </a:r>
            <a:r>
              <a:rPr b="1" lang="en-US" sz="60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1" lang="en-US" sz="6000" spc="-1" strike="noStrike">
                <a:solidFill>
                  <a:srgbClr val="cc00ff"/>
                </a:solidFill>
                <a:latin typeface="Juice ITC"/>
              </a:rPr>
              <a:t>Alissa Tam</a:t>
            </a:r>
            <a:r>
              <a:rPr b="1" lang="en-US" sz="60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1" lang="en-US" sz="6000" spc="-1" strike="noStrike">
                <a:solidFill>
                  <a:srgbClr val="ff3399"/>
                </a:solidFill>
                <a:latin typeface="Juice ITC"/>
              </a:rPr>
              <a:t>and</a:t>
            </a:r>
            <a:r>
              <a:rPr b="1" lang="en-US" sz="60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1" lang="en-US" sz="6000" spc="-1" strike="noStrike">
                <a:solidFill>
                  <a:srgbClr val="66ff33"/>
                </a:solidFill>
                <a:latin typeface="Juice ITC"/>
              </a:rPr>
              <a:t>Bridget Durgin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85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1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d0d0d"/>
                </a:solidFill>
                <a:latin typeface="Bauhaus 93"/>
              </a:rPr>
              <a:t>Water Transpor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any Russian rivers run from south to north making their use difficult during the win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ost ports are covered in snow and ic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The traders must transport their goods another 200 miles to reach the nearest part of inland Russi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Matura MT Script Capitals"/>
              </a:rPr>
              <a:t>Port C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Russia has two important ports called Kaliningrad and St. Petersburg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Kaliningrad is located on a small island in the Baltic Sea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’s the only port that stays ice-free the whole yea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n the summer they have the choice of keeping their goods on the ships to travel 500 miles to St. Petersburg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3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0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3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6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Ravie"/>
              </a:rPr>
              <a:t>Railroa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vel is the main transportation of Russ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In 1995 Russia had 154,000km of railroads but 26% of them were electrifi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ffic dropped since the beginning of the Russian economic reform, making the economy ba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3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1,-3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99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1,-3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99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99"/>
                </a:solidFill>
                <a:latin typeface="Kristen ITC"/>
              </a:rPr>
              <a:t>Air Transpor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99"/>
                </a:solidFill>
                <a:latin typeface="Jokerman"/>
              </a:rPr>
              <a:t>The donation of air service of total travel has dropped to 12.5% by 199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99"/>
                </a:solidFill>
                <a:latin typeface="Jokerman"/>
              </a:rPr>
              <a:t>The number of passengers flying was less then half the 1990 to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99"/>
                </a:solidFill>
                <a:latin typeface="Jokerman"/>
              </a:rPr>
              <a:t>They pay part of air fares and long distance flights between cities accounted for much of the air activity in the early 1990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urlz MT"/>
              </a:rPr>
              <a:t>Public Transpor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urlz MT"/>
              </a:rPr>
              <a:t>Soviet citizens rely on public transportation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urlz MT"/>
              </a:rPr>
              <a:t>Only six Russian cities have underground transportation, Moscow, St. Petersburg, Yekaterinburg, Nizhniy, Novgorod, Novosibirsk, and Samara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urlz MT"/>
              </a:rPr>
              <a:t>A lot of vehicles require expensive repair and modernization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109440" y="-579600"/>
            <a:ext cx="944244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Alissa Tam</cp:lastModifiedBy>
  <dcterms:modified xsi:type="dcterms:W3CDTF">2010-12-23T01:29:06Z</dcterms:modified>
  <cp:revision>16</cp:revision>
  <dc:subject/>
  <dc:title>Movement</dc:title>
</cp:coreProperties>
</file>